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de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5B2E-7A4D-4278-9DAB-D0CBD5AB4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F260-4CFC-4F0F-8575-DCA3B4008D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E1A7-EDDF-467E-8F4E-FDD209464F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D393-9D46-47AE-BF5A-6CDAC52A7D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6992-773A-43AA-9F2A-BBBF43ECC1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C8FB-270D-49FA-97AA-F063897C1A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DB12-7DE9-40C8-9D58-1BD3BA9995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7B03-0485-4576-844F-8D7697E8BD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4510-DFC9-4855-BD32-91DF0F1211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97284-3355-467D-8315-B414CCA506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5219-72B1-4119-A6C7-B04EB6E688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0F36-500B-4136-8DD8-12902F90EF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024C-3C90-4F10-9AAC-BBB389BE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6855-38B4-4414-B52E-05AAD56D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660C-E142-4ACD-9E6B-307DC482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C55-A759-4561-A309-09A9FA55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966B-14F3-4F70-B116-0C8CC631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3C59-6AF9-4E47-BC11-B731095D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DC17-D6B9-44AC-91EA-401DCCA5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0E86-2CF4-46E0-AA5A-532A7EA2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D59E-9726-48CD-942C-D1A5F3EE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454F-AD35-4E39-BC78-EC7E6938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7F80-DBAC-4798-B7F1-30928E4F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322-7EC2-4075-B5CA-62273BA7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6E15-4A86-45AE-A8BD-BC5D9F9B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410F-6A29-4808-8B8A-41AB18AD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09F1-FDBA-436D-868B-E02E5A89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0CE0-574D-43AE-B605-569A63D4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691A-F93E-4F59-9252-DB4FDB71D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9E81-BBAB-4E22-A7E9-959EF895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245B-7DDB-4BC0-B568-8969E199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ED2-DC6D-4B9F-B165-91E42404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9856-C78A-4799-9A8A-0187E7C5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F5C7-8C8A-4E5C-9704-9B5CB1B0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4B03-C3CB-46C7-BE3B-3634FC0E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7EE5-F998-41C8-8FDB-FFCDFBBA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10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72a376"/>
                  </a:gs>
                  <a:gs pos="100000">
                    <a:srgbClr val="676a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5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b0ccb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6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b0ccb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7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72a376"/>
                  </a:gs>
                  <a:gs pos="100000">
                    <a:srgbClr val="676a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" name="Group 8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9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b0cc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0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Group 11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2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Group 14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5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6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7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Freeform 18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19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0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Freeform 21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2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3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Freeform 24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5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6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Freeform 27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8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29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Freeform 30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1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2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Freeform 33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4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5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Freeform 36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7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8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Freeform 39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Group 40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1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Freeform 42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Group 43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Freeform 44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Freeform 45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Group 46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7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Freeform 48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Freeform 49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Group 50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1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72a3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72a3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Group 53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4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5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6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Freeform 57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8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59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Freeform 60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1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2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Freeform 63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4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5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Freeform 66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7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8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Freeform 69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0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1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Freeform 72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3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4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Freeform 75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6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7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Freeform 78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Group 79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0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Freeform 81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Group 82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Freeform 83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Freeform 84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Group 85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6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Freeform 87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Freeform 88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72a37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Group 89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0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72a3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Freeform 92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3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72a3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94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72a3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Rectangle 101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76a5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3A38-390A-4F8C-94EF-B8940077030A}" type="slidenum">
              <a:rPr b="0" i="1" lang="en-US" sz="1400" spc="-1" strike="noStrike">
                <a:solidFill>
                  <a:srgbClr val="eaebd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18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117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102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676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Rectangle 103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676a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Rectangle 3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72a376"/>
                  </a:gs>
                  <a:gs pos="100000">
                    <a:srgbClr val="676a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Rectangle 4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676a55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Rectangle 5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b0ccb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Rectangle 6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b0ccb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Rectangle 7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72a376"/>
                  </a:gs>
                  <a:gs pos="100000">
                    <a:srgbClr val="676a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5" name="Group 8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9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b0cc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10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Group 11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2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3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Group 14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5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153" name="Group 16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154" name="Freeform 17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Freeform 18"/>
                        <p:cNvSpPr/>
                        <p:nvPr/>
                      </p:nvSpPr>
                      <p:spPr>
                        <a:xfrm>
                          <a:off x="107100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19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157" name="Freeform 20"/>
                        <p:cNvSpPr/>
                        <p:nvPr/>
                      </p:nvSpPr>
                      <p:spPr>
                        <a:xfrm>
                          <a:off x="14065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Freeform 21"/>
                        <p:cNvSpPr/>
                        <p:nvPr/>
                      </p:nvSpPr>
                      <p:spPr>
                        <a:xfrm>
                          <a:off x="173484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2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160" name="Freeform 23"/>
                        <p:cNvSpPr/>
                        <p:nvPr/>
                      </p:nvSpPr>
                      <p:spPr>
                        <a:xfrm>
                          <a:off x="20707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Freeform 24"/>
                        <p:cNvSpPr/>
                        <p:nvPr/>
                      </p:nvSpPr>
                      <p:spPr>
                        <a:xfrm>
                          <a:off x="239904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5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163" name="Freeform 26"/>
                        <p:cNvSpPr/>
                        <p:nvPr/>
                      </p:nvSpPr>
                      <p:spPr>
                        <a:xfrm>
                          <a:off x="2735280" y="3811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Freeform 27"/>
                        <p:cNvSpPr/>
                        <p:nvPr/>
                      </p:nvSpPr>
                      <p:spPr>
                        <a:xfrm>
                          <a:off x="3063240" y="3811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28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166" name="Freeform 29"/>
                        <p:cNvSpPr/>
                        <p:nvPr/>
                      </p:nvSpPr>
                      <p:spPr>
                        <a:xfrm>
                          <a:off x="3398400" y="38116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Freeform 30"/>
                        <p:cNvSpPr/>
                        <p:nvPr/>
                      </p:nvSpPr>
                      <p:spPr>
                        <a:xfrm>
                          <a:off x="3726720" y="38116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1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169" name="Freeform 32"/>
                        <p:cNvSpPr/>
                        <p:nvPr/>
                      </p:nvSpPr>
                      <p:spPr>
                        <a:xfrm>
                          <a:off x="406260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Freeform 33"/>
                        <p:cNvSpPr/>
                        <p:nvPr/>
                      </p:nvSpPr>
                      <p:spPr>
                        <a:xfrm>
                          <a:off x="43909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4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172" name="Freeform 35"/>
                        <p:cNvSpPr/>
                        <p:nvPr/>
                      </p:nvSpPr>
                      <p:spPr>
                        <a:xfrm>
                          <a:off x="472680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Freeform 36"/>
                        <p:cNvSpPr/>
                        <p:nvPr/>
                      </p:nvSpPr>
                      <p:spPr>
                        <a:xfrm>
                          <a:off x="50551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37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175" name="Freeform 38"/>
                      <p:cNvSpPr/>
                      <p:nvPr/>
                    </p:nvSpPr>
                    <p:spPr>
                      <a:xfrm>
                        <a:off x="5391000" y="3810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Freeform 39"/>
                      <p:cNvSpPr/>
                      <p:nvPr/>
                    </p:nvSpPr>
                    <p:spPr>
                      <a:xfrm>
                        <a:off x="5718960" y="3810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Group 40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1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Freeform 42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Group 43"/>
                    <p:cNvGrpSpPr/>
                    <p:nvPr/>
                  </p:nvGrpSpPr>
                  <p:grpSpPr>
                    <a:xfrm>
                      <a:off x="6719760" y="3810240"/>
                      <a:ext cx="663120" cy="177840"/>
                      <a:chOff x="6719760" y="3810240"/>
                      <a:chExt cx="663120" cy="177840"/>
                    </a:xfrm>
                  </p:grpSpPr>
                  <p:sp>
                    <p:nvSpPr>
                      <p:cNvPr id="181" name="Freeform 44"/>
                      <p:cNvSpPr/>
                      <p:nvPr/>
                    </p:nvSpPr>
                    <p:spPr>
                      <a:xfrm>
                        <a:off x="6719760" y="38102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Freeform 45"/>
                      <p:cNvSpPr/>
                      <p:nvPr/>
                    </p:nvSpPr>
                    <p:spPr>
                      <a:xfrm>
                        <a:off x="7047720" y="38102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Group 46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184" name="Freeform 47"/>
                      <p:cNvSpPr/>
                      <p:nvPr/>
                    </p:nvSpPr>
                    <p:spPr>
                      <a:xfrm>
                        <a:off x="7383240" y="3810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Freeform 48"/>
                      <p:cNvSpPr/>
                      <p:nvPr/>
                    </p:nvSpPr>
                    <p:spPr>
                      <a:xfrm>
                        <a:off x="7711560" y="3810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Freeform 49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Group 50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1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72a3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Freeform 52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72a3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Group 53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4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192" name="Group 55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193" name="Freeform 56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Freeform 57"/>
                        <p:cNvSpPr/>
                        <p:nvPr/>
                      </p:nvSpPr>
                      <p:spPr>
                        <a:xfrm>
                          <a:off x="105516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58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196" name="Freeform 59"/>
                        <p:cNvSpPr/>
                        <p:nvPr/>
                      </p:nvSpPr>
                      <p:spPr>
                        <a:xfrm>
                          <a:off x="13906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Freeform 60"/>
                        <p:cNvSpPr/>
                        <p:nvPr/>
                      </p:nvSpPr>
                      <p:spPr>
                        <a:xfrm>
                          <a:off x="171900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1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199" name="Freeform 62"/>
                        <p:cNvSpPr/>
                        <p:nvPr/>
                      </p:nvSpPr>
                      <p:spPr>
                        <a:xfrm>
                          <a:off x="20548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Freeform 63"/>
                        <p:cNvSpPr/>
                        <p:nvPr/>
                      </p:nvSpPr>
                      <p:spPr>
                        <a:xfrm>
                          <a:off x="238320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4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202" name="Freeform 65"/>
                        <p:cNvSpPr/>
                        <p:nvPr/>
                      </p:nvSpPr>
                      <p:spPr>
                        <a:xfrm>
                          <a:off x="2719440" y="38098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Freeform 66"/>
                        <p:cNvSpPr/>
                        <p:nvPr/>
                      </p:nvSpPr>
                      <p:spPr>
                        <a:xfrm>
                          <a:off x="3047400" y="38098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67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205" name="Freeform 68"/>
                        <p:cNvSpPr/>
                        <p:nvPr/>
                      </p:nvSpPr>
                      <p:spPr>
                        <a:xfrm>
                          <a:off x="3382560" y="38098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Freeform 69"/>
                        <p:cNvSpPr/>
                        <p:nvPr/>
                      </p:nvSpPr>
                      <p:spPr>
                        <a:xfrm>
                          <a:off x="3710880" y="38098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0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208" name="Freeform 71"/>
                        <p:cNvSpPr/>
                        <p:nvPr/>
                      </p:nvSpPr>
                      <p:spPr>
                        <a:xfrm>
                          <a:off x="404676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Freeform 72"/>
                        <p:cNvSpPr/>
                        <p:nvPr/>
                      </p:nvSpPr>
                      <p:spPr>
                        <a:xfrm>
                          <a:off x="43750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3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211" name="Freeform 74"/>
                        <p:cNvSpPr/>
                        <p:nvPr/>
                      </p:nvSpPr>
                      <p:spPr>
                        <a:xfrm>
                          <a:off x="471096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Freeform 75"/>
                        <p:cNvSpPr/>
                        <p:nvPr/>
                      </p:nvSpPr>
                      <p:spPr>
                        <a:xfrm>
                          <a:off x="50392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2a37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6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214" name="Freeform 77"/>
                      <p:cNvSpPr/>
                      <p:nvPr/>
                    </p:nvSpPr>
                    <p:spPr>
                      <a:xfrm>
                        <a:off x="5375160" y="38084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Freeform 78"/>
                      <p:cNvSpPr/>
                      <p:nvPr/>
                    </p:nvSpPr>
                    <p:spPr>
                      <a:xfrm>
                        <a:off x="5703120" y="38084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Group 79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0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Freeform 81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Group 82"/>
                    <p:cNvGrpSpPr/>
                    <p:nvPr/>
                  </p:nvGrpSpPr>
                  <p:grpSpPr>
                    <a:xfrm>
                      <a:off x="6703920" y="3808440"/>
                      <a:ext cx="663120" cy="177840"/>
                      <a:chOff x="6703920" y="3808440"/>
                      <a:chExt cx="663120" cy="177840"/>
                    </a:xfrm>
                  </p:grpSpPr>
                  <p:sp>
                    <p:nvSpPr>
                      <p:cNvPr id="220" name="Freeform 83"/>
                      <p:cNvSpPr/>
                      <p:nvPr/>
                    </p:nvSpPr>
                    <p:spPr>
                      <a:xfrm>
                        <a:off x="6703920" y="38084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Freeform 84"/>
                      <p:cNvSpPr/>
                      <p:nvPr/>
                    </p:nvSpPr>
                    <p:spPr>
                      <a:xfrm>
                        <a:off x="7031880" y="38084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Group 85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223" name="Freeform 86"/>
                      <p:cNvSpPr/>
                      <p:nvPr/>
                    </p:nvSpPr>
                    <p:spPr>
                      <a:xfrm>
                        <a:off x="7367400" y="38084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Freeform 87"/>
                      <p:cNvSpPr/>
                      <p:nvPr/>
                    </p:nvSpPr>
                    <p:spPr>
                      <a:xfrm>
                        <a:off x="7695720" y="38084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72a37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Freeform 88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72a37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Group 89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0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91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72a37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Freeform 92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3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72a3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94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72a37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Rectangle 105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76a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108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9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76a55"/>
                  </a:gs>
                  <a:gs pos="100000">
                    <a:srgbClr val="72a37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AutoShape 110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76a55"/>
                  </a:gs>
                  <a:gs pos="100000">
                    <a:srgbClr val="72a37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AutoShape 111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76a55"/>
                  </a:gs>
                  <a:gs pos="100000">
                    <a:srgbClr val="72a37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112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13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76a55"/>
                  </a:gs>
                  <a:gs pos="100000">
                    <a:srgbClr val="72a37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114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76a55"/>
                  </a:gs>
                  <a:gs pos="100000">
                    <a:srgbClr val="72a37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AutoShape 115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676a55"/>
                  </a:gs>
                  <a:gs pos="100000">
                    <a:srgbClr val="72a37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de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A5CA-A294-41A2-BCDD-0C9EE8301D60}" type="slidenum">
              <a:rPr b="0" i="1" lang="en-US" sz="1400" spc="-1" strike="noStrike">
                <a:solidFill>
                  <a:srgbClr val="eaebd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de"/>
                </a:solidFill>
                <a:latin typeface="Calibri"/>
              </a:rPr>
              <a:t>Memory and Remembering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hree basic processes that make memory possible are encoding, storage, and retriev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de"/>
                </a:solidFill>
                <a:latin typeface="Calibri"/>
              </a:rPr>
              <a:t>Context-Dependent Memory Effect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Calibri"/>
              </a:rPr>
              <a:t>The tendency for information to be better recalled in the context in which it was originally learn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blem with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inal exams…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0" name="Picture 5" descr="BS00554_"/>
          <p:cNvPicPr/>
          <p:nvPr/>
        </p:nvPicPr>
        <p:blipFill>
          <a:blip r:embed="rId3"/>
          <a:stretch/>
        </p:blipFill>
        <p:spPr>
          <a:xfrm>
            <a:off x="5029200" y="3505320"/>
            <a:ext cx="3200400" cy="2630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de"/>
                </a:solidFill>
                <a:latin typeface="Calibri"/>
              </a:rPr>
              <a:t>State-Dependent Memory Effect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endency for information to be better recalled when the person is in the same psychological or physiological state as when the information was first learn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ample:  state of rest v. state of exercise before learning a list of twenty wor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de"/>
                </a:solidFill>
                <a:latin typeface="Calibri"/>
              </a:rPr>
              <a:t>What is memory?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mory is the system by which we retain information and bring it to mi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arning depends on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thout memory, experience would leave no mark on our behavi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umans would be unable to retain the information and skills we acquire through experi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bde"/>
                </a:solidFill>
                <a:latin typeface="Calibri"/>
              </a:rPr>
              <a:t>Human’s Informational Processing Center</a:t>
            </a:r>
            <a:endParaRPr b="0" lang="en-US" sz="40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ree basic process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Calibri"/>
              </a:rPr>
              <a:t>Encoding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converting information into a form usable in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Calibri"/>
              </a:rPr>
              <a:t>Storag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retaining information in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Calibri"/>
              </a:rPr>
              <a:t>Retrieval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bringing to mind information stored in memo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Calibri"/>
              </a:rPr>
              <a:t>Memory Encoding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Calibri"/>
              </a:rPr>
              <a:t>Process of taking in inform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Calibri"/>
              </a:rPr>
              <a:t>Information about the outside world comes to us through our </a:t>
            </a:r>
            <a:r>
              <a:rPr b="0" lang="en-US" sz="3200" spc="-1" strike="noStrike">
                <a:solidFill>
                  <a:srgbClr val="99ff99"/>
                </a:solidFill>
                <a:latin typeface="Calibri"/>
              </a:rPr>
              <a:t>senses – BUT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Calibri"/>
              </a:rPr>
              <a:t>For this information to enter memory, it must undergo a process of </a:t>
            </a:r>
            <a:r>
              <a:rPr b="0" lang="en-US" sz="3200" spc="-1" strike="noStrike">
                <a:solidFill>
                  <a:srgbClr val="99ff99"/>
                </a:solidFill>
                <a:latin typeface="Calibri"/>
              </a:rPr>
              <a:t>memory encod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ff99"/>
                </a:solidFill>
                <a:uFillTx/>
                <a:latin typeface="Calibri"/>
              </a:rPr>
              <a:t>HOW DO WE ENCODE</a:t>
            </a:r>
            <a:r>
              <a:rPr b="0" lang="en-US" sz="4400" spc="-1" strike="noStrike">
                <a:solidFill>
                  <a:srgbClr val="99ff99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Calibri"/>
              </a:rPr>
              <a:t>Acoustically</a:t>
            </a:r>
            <a:r>
              <a:rPr b="0" lang="en-US" sz="2800" spc="-1" strike="noStrike">
                <a:solidFill>
                  <a:srgbClr val="eaebde"/>
                </a:solidFill>
                <a:latin typeface="Calibri"/>
              </a:rPr>
              <a:t> – coded by sound (repeating a phone number in mind by repeating it to yourself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Calibri"/>
              </a:rPr>
              <a:t>Visually</a:t>
            </a:r>
            <a:r>
              <a:rPr b="0" lang="en-US" sz="2800" spc="-1" strike="noStrike">
                <a:solidFill>
                  <a:srgbClr val="eaebde"/>
                </a:solidFill>
                <a:latin typeface="Calibri"/>
              </a:rPr>
              <a:t> – coded by forming a mental picture (picturing a mental image of the digits of the telephone number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Calibri"/>
              </a:rPr>
              <a:t>Semantically</a:t>
            </a:r>
            <a:r>
              <a:rPr b="0" lang="en-US" sz="2800" spc="-1" strike="noStrike">
                <a:solidFill>
                  <a:srgbClr val="eaebde"/>
                </a:solidFill>
                <a:latin typeface="Calibri"/>
              </a:rPr>
              <a:t> – coded by meaning (transform sounds or visual images into recognizable word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Calibri"/>
              </a:rPr>
              <a:t>Memory Storage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cess of retaining information in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t all information becomes an enduring or long-term mem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will talk more about this when we get to stages of memory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1" name="Picture 5" descr="BS00559_"/>
          <p:cNvPicPr/>
          <p:nvPr/>
        </p:nvPicPr>
        <p:blipFill>
          <a:blip r:embed="rId4"/>
          <a:stretch/>
        </p:blipFill>
        <p:spPr>
          <a:xfrm>
            <a:off x="5029200" y="4419720"/>
            <a:ext cx="3071880" cy="214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Calibri"/>
              </a:rPr>
              <a:t>Memory Retrieval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Calibri"/>
              </a:rPr>
              <a:t>The process of accessing stored information to make it available to consciousnes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Calibri"/>
              </a:rPr>
              <a:t>Although memory retrieval is amazing it is  far from perfec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bde"/>
                </a:solidFill>
                <a:latin typeface="Calibri"/>
              </a:rPr>
              <a:t>Though some memories seem to be retrieved effortlessly, others depend on the availability of </a:t>
            </a:r>
            <a:r>
              <a:rPr b="0" lang="en-US" sz="3200" spc="-1" strike="noStrike">
                <a:solidFill>
                  <a:srgbClr val="99ff99"/>
                </a:solidFill>
                <a:latin typeface="Calibri"/>
              </a:rPr>
              <a:t>retrieval cu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de"/>
                </a:solidFill>
                <a:latin typeface="Calibri"/>
              </a:rPr>
              <a:t>Retrieval Cues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es associated with the  original learning, to jog them into awarenes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ample: police detectives often take victims back to the scene of the crime to help their memories of the crim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99"/>
                </a:solidFill>
                <a:latin typeface="Calibri"/>
              </a:rPr>
              <a:t>WHY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de"/>
                </a:solidFill>
                <a:latin typeface="Calibri"/>
              </a:rPr>
              <a:t>Encoding Specificity Principle</a:t>
            </a:r>
            <a:endParaRPr b="0" lang="en-US" sz="4400" spc="-1" strike="noStrike">
              <a:solidFill>
                <a:srgbClr val="eaebde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Calibri"/>
              </a:rPr>
              <a:t>According to this principle, retrieval of particular memories will be more successful when cues available during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Calibri"/>
              </a:rPr>
              <a:t>recall</a:t>
            </a:r>
            <a:r>
              <a:rPr b="0" lang="en-US" sz="3200" spc="-1" strike="noStrike">
                <a:solidFill>
                  <a:srgbClr val="99ff99"/>
                </a:solidFill>
                <a:latin typeface="Calibri"/>
              </a:rPr>
              <a:t> are similar to those that were present when the information was </a:t>
            </a:r>
            <a:r>
              <a:rPr b="0" lang="en-US" sz="3200" spc="-1" strike="noStrike" u="sng">
                <a:solidFill>
                  <a:srgbClr val="99ff99"/>
                </a:solidFill>
                <a:uFillTx/>
                <a:latin typeface="Calibri"/>
              </a:rPr>
              <a:t>originally encoded</a:t>
            </a:r>
            <a:r>
              <a:rPr b="0" lang="en-US" sz="3200" spc="-1" strike="noStrike">
                <a:solidFill>
                  <a:srgbClr val="99ff9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06:25:27Z</dcterms:created>
  <dc:creator>khagee</dc:creator>
  <dc:description/>
  <dc:language>en-US</dc:language>
  <cp:lastModifiedBy>John Hampton</cp:lastModifiedBy>
  <dcterms:modified xsi:type="dcterms:W3CDTF">2012-02-16T20:26:12Z</dcterms:modified>
  <cp:revision>21</cp:revision>
  <dc:subject/>
  <dc:title>Memory and Remembering</dc:title>
</cp:coreProperties>
</file>